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317-29E1-4939-8654-6303B6A9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8A5-9B86-404F-A1D3-405D807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D2D-B6C9-4ABD-BFC9-9944356B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2C4-8051-479F-BF1B-9D87C95B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AAE-61FA-4BBD-98A4-D40F8033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D22-433B-43B6-9C0B-4B9F572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AC8-F1F9-4D49-9AFF-E8B9585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E072-100D-41BC-90E9-2DF7BF5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850F-A843-403E-88C6-5A34387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A079-51F1-41B4-A91C-446AC0A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C97-AA12-4D25-906A-63963A4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02B-16FB-49F1-8D17-27F64BA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765E-C19C-46C7-81FB-EF5C52F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BAD-CEE5-4A89-8ED9-FB7FE42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053-4E4C-4C96-8AD8-153A28A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8A3D-CFAD-4333-9C39-B54253A7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8A5-20EB-498F-B686-D90242D6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004-E92C-4F3F-AFEA-B6248A2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CFC-B48D-4746-A860-0F61EAA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E2E-9B95-4431-BA91-E06B584A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F46-65D8-44B3-9AD6-21BB841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063-7BE8-4A66-9C2D-0D2D870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F9C-B085-4BC2-AE4A-324CDB0A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8B3-8179-4E50-893B-A188DE3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700-06A4-447A-B07F-B31483EF0529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D797-4EBE-404F-9E0B-91A4417A49B0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Bienvenido a la feria del café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Consejo Ejidal de productores de café de Coatepe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3280" y="4351320"/>
            <a:ext cx="3744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iudad del caf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oatepec produce café desde 18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Cada año, actualmente, se realiza la Feria del café entre abril y may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56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iembra de los cafet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2916360" cy="460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Verdana"/>
              </a:rPr>
              <a:t>Germinación del gran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442120" y="2781360"/>
            <a:ext cx="13359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Almácig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0480" y="3860640"/>
            <a:ext cx="24148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Trasplante a la tier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3400" y="4869000"/>
            <a:ext cx="30276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Producción de los cafe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234936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3577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45086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37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Producción del café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240000" cy="212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692360" cy="126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1152720" cy="101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300640"/>
            <a:ext cx="21607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Tostado y moli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9200" y="1844640"/>
            <a:ext cx="321336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"/>
              </a:rPr>
              <a:t>R</a:t>
            </a:r>
            <a:r>
              <a:rPr b="1" lang="es-MX" sz="1800" spc="-1" strike="noStrike">
                <a:solidFill>
                  <a:srgbClr val="eaeaea"/>
                </a:solidFill>
                <a:latin typeface="Arial"/>
              </a:rPr>
              <a:t>ecolección del café cerez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1760" y="2565360"/>
            <a:ext cx="243000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húme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7560" y="3225960"/>
            <a:ext cx="167868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2840" y="4608360"/>
            <a:ext cx="20599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eneficiado se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22334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292428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361620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43360" y="3933720"/>
            <a:ext cx="985320" cy="368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Secad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30704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997520"/>
            <a:ext cx="289080" cy="288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4869000"/>
            <a:ext cx="20163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Nuestro Consejo Ejid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148280" cy="2778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3120" y="1571760"/>
            <a:ext cx="41245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Somos 132 miembros con sus famili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Promovemos la calidad del café que se produ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Manejamos un precio justo, que nos permita pagar los gastos de producción y tener gananci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Somos una importante fuente de trabajo en la región y por ello cuidamos mucho la calidad de nuestros producto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Vent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3544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95640" y="1413000"/>
            <a:ext cx="47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omuníquese con nos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Vendemos a cualquier parte del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anejamos exportaciones para cualquier paí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TENEMOS EL MEJOR CAFÉ DE COATEPE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¡Le encantará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1:14Z</dcterms:created>
  <dc:creator>rocio</dc:creator>
  <dc:description/>
  <dc:language>en-US</dc:language>
  <cp:lastModifiedBy>rocio</cp:lastModifiedBy>
  <dcterms:modified xsi:type="dcterms:W3CDTF">2006-05-15T20:27:22Z</dcterms:modified>
  <cp:revision>15</cp:revision>
  <dc:subject/>
  <dc:title>Bienvenido a la feria del café</dc:title>
</cp:coreProperties>
</file>